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176E-41A3-4761-8158-A75716C1E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741D-8DD3-4D9A-9863-4D4F29457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C53-3FFF-479C-B951-B099223E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878-ABD5-4BCF-8E96-9F056F6A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E1E-959B-4D09-B4D6-22406E1F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85A-502B-4FAF-9950-8160B300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1BF-BF7B-4E6C-89B2-45A5B352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242-3407-4BD5-9E99-51A8F2B3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899-9D68-4C66-AF6D-9FCE88FE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051-E31F-49C4-AE78-B3B3EC03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3AC-FAA1-4887-92EE-4E8CBACA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C23-FEAF-4DB5-AD58-184E8C66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A92-A98F-4E06-8C8D-9F78E830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7D9-14B7-4AE3-B04B-ED1AF4CD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7279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4174-5C60-40D5-9C9C-47D4D108C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The Digestive System</a:t>
            </a:r>
            <a:br>
              <a:rPr sz="4800"/>
            </a:br>
            <a:r>
              <a:rPr b="0" i="1" lang="en-US" sz="4800" spc="-1" strike="noStrike">
                <a:solidFill>
                  <a:srgbClr val="ffffff"/>
                </a:solidFill>
                <a:latin typeface="Arial Rounded MT Bold"/>
              </a:rPr>
              <a:t>Do you take it  for grant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Chemical Diges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Chemicals produced by the body break foods into smaller chemical building block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Begins in the mou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C:\WINDOWS\Application Data\Microsoft\Media Catalog\Downloaded Clips\cl60\j0242141.wmf"/>
          <p:cNvPicPr/>
          <p:nvPr/>
        </p:nvPicPr>
        <p:blipFill>
          <a:blip r:embed="rId1"/>
          <a:stretch/>
        </p:blipFill>
        <p:spPr>
          <a:xfrm>
            <a:off x="7238880" y="3048120"/>
            <a:ext cx="1219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Chemical Digestion, Co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Accomplished by enzy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Enzymes – protein that speeds up chemical reactions in the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Absorp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Occurs after food has been diges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rocess by which nutrient molecules pass through the wall of the digestive system into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Mou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Saliva – fluid released when your mouth wa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Important role in both mechanical and chemical digestive proces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Esophag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 muscular tube that connects the mouth to the stom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Is lined with mucus – a thick slippery substance – makes food easier to swallow and move through th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Esophagus, Co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The epiglottis seals off the windpipe to prevent food from enter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eristalsis are involuntary waves of muscle con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Stom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 j-shaped muscular pouch located in the abd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Most mechanical digestion occurs in the stomach along with chemical dig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WINDOWS\Application Data\Microsoft\Media Catalog\Downloaded Clips\cl0\HM00097_.wmf"/>
          <p:cNvPicPr/>
          <p:nvPr/>
        </p:nvPicPr>
        <p:blipFill>
          <a:blip r:embed="rId1"/>
          <a:stretch/>
        </p:blipFill>
        <p:spPr>
          <a:xfrm>
            <a:off x="7238880" y="762120"/>
            <a:ext cx="1752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Stomach, Co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Digestive juice contains the enzyme pepsin and hydrochloric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epsin kills bacteria that enters with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Stomach, Co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Hydrochloric acid helps the stomach to function proper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Mucus coats and protects the stomach from ac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Stomach, Co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Food remains in the stomach until all solid material has been broken down into liquid fo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It takes a few hours for food to dig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457200" y="487440"/>
            <a:ext cx="80773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Rounded MT Bold"/>
              </a:rPr>
              <a:t>For me the phrase we are what we eat means……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Rounded MT Bold"/>
              </a:rPr>
              <a:t>For my partner the phrase we are what we eat means………………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Rounded MT Bold"/>
              </a:rPr>
              <a:t>I feel……………..about my eating hab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Digestive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Image result for digestion"/>
          <p:cNvPicPr/>
          <p:nvPr/>
        </p:nvPicPr>
        <p:blipFill>
          <a:blip r:embed="rId1"/>
          <a:stretch/>
        </p:blipFill>
        <p:spPr>
          <a:xfrm>
            <a:off x="1100160" y="1676520"/>
            <a:ext cx="6943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What is the function of your digestive syste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0280" y="1836720"/>
            <a:ext cx="7772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reaks down food into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olecules are absorbed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nto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lood and carried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roughout the bo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Image result for functions"/>
          <p:cNvPicPr/>
          <p:nvPr/>
        </p:nvPicPr>
        <p:blipFill>
          <a:blip r:embed="rId1"/>
          <a:stretch/>
        </p:blipFill>
        <p:spPr>
          <a:xfrm>
            <a:off x="1600200" y="4876920"/>
            <a:ext cx="4572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WASTE ELIMATI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(The large intestines is not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really larger than the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mall intestine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Image result for large intestine function"/>
          <p:cNvPicPr/>
          <p:nvPr/>
        </p:nvPicPr>
        <p:blipFill>
          <a:blip r:embed="rId1"/>
          <a:stretch/>
        </p:blipFill>
        <p:spPr>
          <a:xfrm>
            <a:off x="380880" y="228600"/>
            <a:ext cx="8542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696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What is digestion exactl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08000"/>
            <a:ext cx="659772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rocess by which the body breaks down food into small nutrient molecules.  Small enough to pass through the bloodst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Image result for digestion"/>
          <p:cNvPicPr/>
          <p:nvPr/>
        </p:nvPicPr>
        <p:blipFill>
          <a:blip r:embed="rId1"/>
          <a:stretch/>
        </p:blipFill>
        <p:spPr>
          <a:xfrm>
            <a:off x="5491080" y="5146560"/>
            <a:ext cx="29638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4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wo Kinds of Diges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Mechanic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Chemic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mage result for digestion"/>
          <p:cNvPicPr/>
          <p:nvPr/>
        </p:nvPicPr>
        <p:blipFill>
          <a:blip r:embed="rId1"/>
          <a:stretch/>
        </p:blipFill>
        <p:spPr>
          <a:xfrm>
            <a:off x="1295280" y="533520"/>
            <a:ext cx="60771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Mechanical Diges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Foods are physically broken down into smaller pie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Begins when you take your first bite of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Your teeth are the first stage in mechanical dig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6:54:54Z</dcterms:created>
  <dc:creator>Paul Fletcher</dc:creator>
  <dc:description/>
  <dc:language>en-US</dc:language>
  <cp:lastModifiedBy>Daly Dominguez</cp:lastModifiedBy>
  <dcterms:modified xsi:type="dcterms:W3CDTF">2016-10-06T18:20:06Z</dcterms:modified>
  <cp:revision>32</cp:revision>
  <dc:subject/>
  <dc:title>Digestive Process Begins</dc:title>
</cp:coreProperties>
</file>